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A1A-E19C-4A94-99BD-E8FCA0EC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E75-7F63-406A-84E5-E3A0AA4C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846-C320-4543-A8A8-E8B5670C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695-3DBE-4294-BE87-57A598F6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0F6C-679E-4E73-8C60-BCEF475B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B073-73EE-4233-8490-51C30370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9FF-D722-42C5-9AA3-47FBEAD0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CC31-6938-4AC2-BB6B-A8E78DE1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6BAF-0251-4598-B79F-E511AB5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D131-CE04-4D33-BA1E-D600943B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E590-87BA-4409-8C7B-94D75CA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072-76BC-484E-AFD1-696E3277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CC6E-F8F6-4396-8BA8-E13EA819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7A1-B6C7-4820-B8CC-88810C3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845-5DA7-43C0-B77B-20E003B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B285-B313-4235-A82F-6722967F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9B24-B210-4A03-BAC2-3355C651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56E5-621B-4565-8A51-A2EC1909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ED80-D83C-432B-B0C3-971E1692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A669-021E-4264-B806-F075F58D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6E21-B180-4EE7-9137-E6B94920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D377-BC48-4A4D-8481-77D1A067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C9E-F947-4104-9DD4-3F86A421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C594-7A99-417A-B258-CAA64F5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8E4A-3C7C-42CA-B4A1-687CDB3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E7BC-D736-40D3-AF42-10197AD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10C6-3F99-4CDD-885C-5CC9187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0E20-12B5-4284-9658-A4E0932D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5D87-D92D-4DC4-B0E7-A25BE5D5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DE09-AB6D-42A8-A060-5C22B9BF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C1C2-C18F-42BF-B9C7-F9A9ECAB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0BAA-731B-4DFD-86F7-3D461B9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5405-4511-4AD6-A444-387620F1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347-7A4D-454A-8DED-0E5F5A5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915E-A9AC-49C0-9889-FAD6EAA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B928-6355-4D1E-8D78-BDB6328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956B-A9DF-48B8-98B5-69A72E01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DD3A-940C-48F6-9004-167B490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FA87-D4F8-4C97-9287-445EC1A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DD3A-E0A1-4F29-A85C-2DDADCF2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8952-EF64-4FB0-82E3-733D99D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1935-C67E-4884-A265-8BC56A93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65E1-7149-42D1-8ED5-15895A8A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711-C26B-49EC-B7A5-7E242D7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021-391E-4941-BB36-DCFF975A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D8E-BBC9-4BC2-BB21-CBE2C12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765-5D7D-4B6D-860B-96CCFCD6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798-99F7-468F-93E4-A01DCB7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9F5DC-54A3-49D4-8E86-59FC551BF5B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C3E08-5AA9-446E-BED0-6AF5A9EA3FD0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5B6F7-C02C-452C-B0AF-7DC612D0A4B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EBF01-A423-4A1B-8935-E3413C63CCE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ebebeb"/>
                </a:solidFill>
                <a:latin typeface="Century Gothic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2) 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PRECIZAREA NIVELURILOR DIN CECRL LA INTRAREA ELEVILOR ÎN CICLUL DE ÎNVĂȚĂMÂNT GIMNAZIAL, PRECUM ȘI A NIVELURILOR AȘTEPTATE </a:t>
            </a: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LA FINALUL CICLULUI GIMNAZIAL (a)</a:t>
            </a:r>
            <a:br>
              <a:rPr sz="2900"/>
            </a:br>
            <a:br>
              <a:rPr sz="2900"/>
            </a:b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- limbile engleză,franceză, spaniolă, italiană - 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ebebeb"/>
                </a:solidFill>
                <a:latin typeface="Century Gothic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- limbile germană, rusă -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3)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 DETALIEREA FIEC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Ă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REI 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COMPETENȚ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E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 GENE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RALE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 ÎN COMPETENȚE SPECIFICE, ULTIMA COMPETENȚĂ SPECIFICĂ FIIND DE NATURĂ SOCIO-CULTURALĂ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ffffff"/>
                </a:solidFill>
                <a:latin typeface="Century Gothic"/>
              </a:rPr>
              <a:t>9) INDICAREA RESURSELOR ON LINE UTILE PARCURGERII PROGRAME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anuela Delia</cp:lastModifiedBy>
  <dcterms:modified xsi:type="dcterms:W3CDTF">2018-08-29T06:56:24Z</dcterms:modified>
  <cp:revision>23</cp:revision>
  <dc:subject/>
  <dc:title>Elemente de noutate ale programei școlare pentru disciplina</dc:title>
</cp:coreProperties>
</file>